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455A-4010-449A-A191-7B154F6A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F534-93AB-4EE7-BE3B-76659EA1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1F22-3A87-4387-AA00-34AADD5A3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to the person next to you: what is one discourse community you share? (could be related to your major, to a hobby, to your family back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8F49-9982-4657-AF57-789C31B08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29D-F013-4DBF-B35D-B4739C48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52A-EF3D-4F6F-9629-E89AF600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61F-214F-4BE9-87AA-05FC4FDD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B85-E9D9-444E-88CC-F1132298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DD9-6382-48D7-9F84-1C61F8B0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609-D4D9-4BF9-B977-33B13F02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0E3-9C05-4950-B3BE-BB9A1B8C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085-ED92-4C0E-8D05-A9897AE0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DC8-893A-4EF7-B70B-8D6D0172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431-838F-4AAA-B547-5DFF36C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E8E-11BC-4EE1-88A7-A642F88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DD5-A457-40B6-AB80-9FFED0E9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AD1F-23C8-43EB-B4CA-F662A3EC2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, Discours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College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1-20-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hnography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 (culture) + graphy (writing) = writing and read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85800" y="917640"/>
            <a:ext cx="75438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poi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23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about the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practices of the people around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community: school, business,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poi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about the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practices of the people around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community: school, business,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685800" y="1219320"/>
            <a:ext cx="7620120" cy="4647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annandmike\AppData\Local\Microsoft\Windows\Temporary Internet Files\Content.IE5\VW0ADDCU\MP900408859[1].jpg"/>
          <p:cNvPicPr/>
          <p:nvPr/>
        </p:nvPicPr>
        <p:blipFill>
          <a:blip r:embed="rId1"/>
          <a:stretch/>
        </p:blipFill>
        <p:spPr>
          <a:xfrm>
            <a:off x="1981080" y="1905120"/>
            <a:ext cx="11368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annandmike\AppData\Local\Microsoft\Windows\Temporary Internet Files\Content.IE5\IZI8PFK5\MC900365586[1].wmf"/>
          <p:cNvPicPr/>
          <p:nvPr/>
        </p:nvPicPr>
        <p:blipFill>
          <a:blip r:embed="rId2"/>
          <a:stretch/>
        </p:blipFill>
        <p:spPr>
          <a:xfrm>
            <a:off x="3809880" y="4419720"/>
            <a:ext cx="1219320" cy="123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annandmike\AppData\Local\Microsoft\Windows\Temporary Internet Files\Content.IE5\VW0ADDCU\MC900431531[1].png"/>
          <p:cNvPicPr/>
          <p:nvPr/>
        </p:nvPicPr>
        <p:blipFill>
          <a:blip r:embed="rId3"/>
          <a:stretch/>
        </p:blipFill>
        <p:spPr>
          <a:xfrm>
            <a:off x="3733920" y="1295280"/>
            <a:ext cx="11793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annandmike\AppData\Local\Microsoft\Windows\Temporary Internet Files\Content.IE5\V4XGFMPT\MC900383922[1].wmf"/>
          <p:cNvPicPr/>
          <p:nvPr/>
        </p:nvPicPr>
        <p:blipFill>
          <a:blip r:embed="rId4"/>
          <a:stretch/>
        </p:blipFill>
        <p:spPr>
          <a:xfrm>
            <a:off x="1903320" y="3809880"/>
            <a:ext cx="1297080" cy="1328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C:\Users\annandmike\AppData\Local\Microsoft\Windows\Temporary Internet Files\Content.IE5\VW0ADDCU\MC900335761[1].wmf"/>
          <p:cNvPicPr/>
          <p:nvPr/>
        </p:nvPicPr>
        <p:blipFill>
          <a:blip r:embed="rId5"/>
          <a:stretch/>
        </p:blipFill>
        <p:spPr>
          <a:xfrm>
            <a:off x="5853240" y="1676520"/>
            <a:ext cx="776160" cy="150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C:\Users\annandmike\AppData\Local\Microsoft\Windows\Temporary Internet Files\Content.IE5\V4XGFMPT\MP910218757[1].jpg"/>
          <p:cNvPicPr/>
          <p:nvPr/>
        </p:nvPicPr>
        <p:blipFill>
          <a:blip r:embed="rId6"/>
          <a:stretch/>
        </p:blipFill>
        <p:spPr>
          <a:xfrm>
            <a:off x="5715000" y="3581280"/>
            <a:ext cx="110952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4"/>
          <p:cNvSpPr/>
          <p:nvPr/>
        </p:nvSpPr>
        <p:spPr>
          <a:xfrm>
            <a:off x="762120" y="6095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iefs, values, practices shared by a particular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urs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3"/>
          <p:cNvSpPr/>
          <p:nvPr/>
        </p:nvSpPr>
        <p:spPr>
          <a:xfrm>
            <a:off x="685800" y="1219320"/>
            <a:ext cx="7620120" cy="4647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s for meaning-making shared by a particular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1066680" y="2666880"/>
            <a:ext cx="2210040" cy="2210040"/>
          </a:xfrm>
          <a:prstGeom prst="ellipse">
            <a:avLst/>
          </a:prstGeom>
          <a:noFill/>
          <a:ln w="507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3429000" y="2590920"/>
            <a:ext cx="2286000" cy="2286000"/>
          </a:xfrm>
          <a:prstGeom prst="ellipse">
            <a:avLst/>
          </a:prstGeom>
          <a:noFill/>
          <a:ln w="507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5867280" y="2590920"/>
            <a:ext cx="2286000" cy="2286000"/>
          </a:xfrm>
          <a:prstGeom prst="ellipse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594360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411480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209680" y="1905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64008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ine ga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4038480" y="3352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15238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aut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5410080" y="4876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ge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3962520" y="5334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2057400" y="4952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urs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3"/>
          <p:cNvSpPr/>
          <p:nvPr/>
        </p:nvSpPr>
        <p:spPr>
          <a:xfrm>
            <a:off x="685800" y="1219320"/>
            <a:ext cx="7620120" cy="464796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60948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ea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1066680" y="2666880"/>
            <a:ext cx="2210040" cy="2210040"/>
          </a:xfrm>
          <a:prstGeom prst="ellipse">
            <a:avLst/>
          </a:prstGeom>
          <a:noFill/>
          <a:ln w="507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3429000" y="2590920"/>
            <a:ext cx="2286000" cy="2286000"/>
          </a:xfrm>
          <a:prstGeom prst="ellipse">
            <a:avLst/>
          </a:prstGeom>
          <a:noFill/>
          <a:ln w="50760">
            <a:solidFill>
              <a:srgbClr val="7793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5867280" y="2590920"/>
            <a:ext cx="2286000" cy="2286000"/>
          </a:xfrm>
          <a:prstGeom prst="ellipse">
            <a:avLst/>
          </a:prstGeom>
          <a:noFill/>
          <a:ln w="507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388620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lappin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662940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namic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urs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3"/>
          <p:cNvSpPr/>
          <p:nvPr/>
        </p:nvSpPr>
        <p:spPr>
          <a:xfrm>
            <a:off x="685800" y="1219320"/>
            <a:ext cx="7620120" cy="4647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s for meaning-making shared by a particular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1066680" y="2666880"/>
            <a:ext cx="2210040" cy="2210040"/>
          </a:xfrm>
          <a:prstGeom prst="ellipse">
            <a:avLst/>
          </a:prstGeom>
          <a:noFill/>
          <a:ln w="507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3429000" y="2590920"/>
            <a:ext cx="2286000" cy="2286000"/>
          </a:xfrm>
          <a:prstGeom prst="ellipse">
            <a:avLst/>
          </a:prstGeom>
          <a:noFill/>
          <a:ln w="507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5867280" y="2590920"/>
            <a:ext cx="2286000" cy="2286000"/>
          </a:xfrm>
          <a:prstGeom prst="ellipse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annandmike\AppData\Local\Microsoft\Windows\Temporary Internet Files\Content.IE5\IZI8PFK5\MP900448573[1].jpg"/>
          <p:cNvPicPr/>
          <p:nvPr/>
        </p:nvPicPr>
        <p:blipFill>
          <a:blip r:embed="rId1"/>
          <a:stretch/>
        </p:blipFill>
        <p:spPr>
          <a:xfrm>
            <a:off x="3733920" y="3200400"/>
            <a:ext cx="1676160" cy="1119240"/>
          </a:xfrm>
          <a:prstGeom prst="rect">
            <a:avLst/>
          </a:prstGeom>
          <a:ln w="0">
            <a:noFill/>
          </a:ln>
        </p:spPr>
      </p:pic>
      <p:sp>
        <p:nvSpPr>
          <p:cNvPr id="91" name="PubOvalCallout"/>
          <p:cNvSpPr/>
          <p:nvPr/>
        </p:nvSpPr>
        <p:spPr>
          <a:xfrm>
            <a:off x="1371600" y="3200400"/>
            <a:ext cx="1523880" cy="118116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129600 h 1181160"/>
              <a:gd name="textAreaBottom" fmla="*/ 756720 h 11811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0766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12193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hnography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 (culture) + graphy (writing) = writing and read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066680"/>
          <a:ext cx="358128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pus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rts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ee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96" name="Chart 6" descr=""/>
          <p:cNvPicPr/>
          <p:nvPr/>
        </p:nvPicPr>
        <p:blipFill>
          <a:blip r:embed="rId1"/>
          <a:stretch/>
        </p:blipFill>
        <p:spPr>
          <a:xfrm>
            <a:off x="4140360" y="3378240"/>
            <a:ext cx="414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hnography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0" t="0" r="0" b="13833"/>
          <a:stretch/>
        </p:blipFill>
        <p:spPr>
          <a:xfrm>
            <a:off x="2590920" y="1066680"/>
            <a:ext cx="3886200" cy="5031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 (culture) + graphy (writing) = writing and read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hnography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3903840" cy="4952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 (culture) + graphy (writing) = writing and read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3:36:17Z</dcterms:created>
  <dc:creator>Michael Sherry</dc:creator>
  <dc:description/>
  <dc:language>en-US</dc:language>
  <cp:lastModifiedBy>Michael Sherry</cp:lastModifiedBy>
  <dcterms:modified xsi:type="dcterms:W3CDTF">2011-01-20T10:49:10Z</dcterms:modified>
  <cp:revision>10</cp:revision>
  <dc:subject/>
  <dc:title>Culture, Discourse,  and College Life</dc:title>
</cp:coreProperties>
</file>